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53E6-B2C6-4462-83B9-0B8868A6D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– The key to a community of learners. The key to Making It Happen.   Real talk equals real results.  Good for students, good for adults.   Classroom and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ve difference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connection between teacher effectiveness and student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 and 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8DD-6501-4F55-ABEA-76C39D08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D8EC-8D0A-4B54-BC54-50576F73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93F-73AB-4097-BB80-96E13E43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ED1F-08DB-4125-82C8-05C9B415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EBF-ED04-40DB-9804-88BC8641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E81-1343-41FC-8DD4-2A07C9AB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E75-DF90-46C1-9863-EC98BE71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0A3E-45D2-4625-90F3-CE082978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454-0AC6-49C3-8087-BE4BA709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75E-5CDA-40D2-B798-6434B689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DB33-573E-4D97-8459-8920754F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D31-5EB2-4D9E-BF4A-388A86CB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48C9-FB6E-49EF-A271-AAAE0A5AF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33720" y="457200"/>
            <a:ext cx="4419360" cy="434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ester"/>
              </a:rPr>
              <a:t>North Rockland High School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ester"/>
              <a:ea typeface="Jester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19520" y="1143000"/>
          <a:ext cx="302580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143000"/>
                    <a:ext cx="3025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6479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Make It Happen 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Power of Communication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2007-2008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3434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Business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ttache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d/Lock Down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Tempus Sans ITC"/>
              </a:rPr>
              <a:t>Regents Resul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Tempus Sans ITC"/>
              </a:rPr>
              <a:t>NRH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Regents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129520" cy="3200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219320"/>
                <a:gridCol w="1423800"/>
                <a:gridCol w="1471680"/>
                <a:gridCol w="127152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-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-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t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ci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t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-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-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-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6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9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038480" y="624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510552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Goal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90% Proficiency   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and 60% Mas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600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1600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Faculty Meeting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January 17,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zano’s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he Art and Science of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at will I do to establish and communicate learning goals, track student progress, and celebrate suc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ve Assessment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Three Questions of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ree Critical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m I g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m I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I close the ga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Where am I going?</a:t>
            </a:r>
            <a:br>
              <a:rPr sz="4400"/>
            </a:b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Goal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ategy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Provide a clear and understandable vision of the learning targ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ategy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Use examples of strong and weak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Rubicon Atlas – Curriculum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Where Am I now?</a:t>
            </a:r>
            <a:br>
              <a:rPr sz="4400"/>
            </a:b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Formativ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ategy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ffer regular descrip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ategy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each students to self-assess and set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rmative, Common 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ummative assessments (Regents, final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How can I close the g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rategy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Design lessons to focus on the Greatest Area of Need (GA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rategy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Teach students focused re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rategy 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ngage students in self-reflection and let them document and share their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Academic Interventions, Differentiated Instruction, “Perfect Practice”, Greatest Area of Need (G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Celebrate Student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ategy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ave students chart their progress on each learning go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ategy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cognize and celebrate individual and group growth (knowledge-bas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Learning Environment: Clear unit goals and evidence of student accompl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4:55:48Z</dcterms:created>
  <dc:creator>North Rockland High School</dc:creator>
  <dc:description/>
  <dc:language>en-US</dc:language>
  <cp:lastModifiedBy>North Rockland High School</cp:lastModifiedBy>
  <dcterms:modified xsi:type="dcterms:W3CDTF">2008-01-17T18:01:51Z</dcterms:modified>
  <cp:revision>8</cp:revision>
  <dc:subject/>
  <dc:title>Make It Happen  Power of Communication 2007-2008 </dc:title>
</cp:coreProperties>
</file>